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B82D-F41D-4D49-97E4-9D222EDA7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E601-0D4F-408D-8394-CB4B9240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9363DF-C7C3-4D75-A7F5-A2EBB156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AF8FFA-73E2-47E0-B5BC-B49A159A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8FB748-079A-4D94-9DCD-CEDF4A2A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DABF0-B1B9-4A55-9367-82FD103E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40B29-1C82-4C50-A57A-D2643348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284135-2CC4-45FF-BD48-66E7A39F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E09190-3F64-4043-8422-87B44F0E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0AFFA6-B94D-4EC4-8BA3-A2D714151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E3ACAE-8E40-4A4F-B4BC-501917B9A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F24D7C-BB47-4BAF-BCCA-29B1C793B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55AD-BE74-4505-9724-6C10A1A95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C2BBD3-86B5-4735-A2B7-2E32713D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45E5E1-7FE3-4BC4-8705-B35FE094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997CBB-0F76-4F21-9762-850C5952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4C1082-8A16-4B9B-8DC4-BDBEC8EA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EEEFFA-8B94-4C1E-AD88-E4D841A8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B8281F-41D1-40BC-BEB6-100BC92C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EEA7D3-8074-40BB-8810-76CF30D6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52DA77-1090-47DE-8C51-E76B565B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882863-2FE7-4F18-A990-258636DB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9741C-F896-4084-9179-CBEFA2D67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2EFF-1B73-43AD-B2A8-DCB3270DA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EE6D3A-76E8-4F3D-A375-B0A1DB71D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C55F65-CD9E-48BC-89B1-E3D571E54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E640D-6E2F-4902-9755-403517AE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332B37-CD55-4A0D-B07D-F99FEBA2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4FF2B-4D3F-4F92-8C23-16CC444B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72FE2-0E80-45A2-925C-EFA65C3D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A4F31-8ED7-4627-88DB-7FF23F88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92B07-3012-438B-AEC2-7BA1EFF0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09A84-0162-4E9A-835A-4905E809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E2948-FA2F-4A5C-82AF-8E43A071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D599-A05C-473F-83F4-8B8009E3C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F32EB8-67EB-47DC-A502-EDCDE68F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BC7E4E-C2F4-4BD7-ACC8-F1EB59CDE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03BF73-E32C-457F-9BEA-D247BEBE1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B2B0EF-DE36-4BDF-BEB5-0C147FEA9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99D76E-7C18-4EF1-AF07-BAEDBA74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00243F-7F4A-4AC7-949C-B7E6CDF5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02A37A-33B0-4575-8518-D3502147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5B931A-F3AD-4520-BD35-8DF6A66E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E05D15-A26B-4B5E-BD09-5F034453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511A8C-5295-4C3F-A7E6-A394C7AE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F22A-00DE-403C-B03C-31A90809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22E865-22B7-4466-952E-AA847C79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95B4D8-B62A-4A51-A5A8-142168D0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299AAF-B3B1-4530-84E2-76BA29FE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281C34-7BFB-4AF9-A551-548ABC554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D1C7D2-C043-4B1E-B3F8-A5B5B97E0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DA3C28-9937-4FD5-88CC-192C23FE4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33FF75-D308-401D-ADBB-724515A8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27ADE1-3048-45F1-ABEC-A04576A2C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0729FF-2DC5-48D0-A42F-B025DBFA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9D0554-310F-41AB-806C-D115153F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6783-FE1E-4FE2-929C-3CAFE96E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4ABE88-F071-4DDC-8DAF-F0148369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6EACFB-BA42-43AD-8E40-C0ACD168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62DBD8-913C-41A7-84ED-3624D0FB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FA320B-95FF-4685-A1EE-093E5925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74091A-A85D-4B5B-A17B-1B5C2052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070333-3E7C-4240-A68C-2C9F71E4A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44C7CE-9A21-478A-B8A2-D92D6C88A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9B5D39-EFB8-44FF-8833-18CFF81F0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4F2BB1-3227-46A7-AD41-4D338F1D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6B7F8A-2FE2-41B7-BDED-3AAEE5EA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15D0-8135-4BDD-B276-215832A7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AC60DE-47A4-4AF1-814D-E141F8FA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25E725-CF58-4F9D-880C-5FE9E9C5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508EBC-8817-4F0F-B8EE-45E3833B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B6D34E-1F68-401D-A493-3EF10B63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85AEBE-49E4-4FDB-A9D1-3FC57F91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90371A-A33F-4C80-B288-AE79F4D6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222370-CF13-4743-8EB1-3D19D529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ACA28F-A3CF-4066-9175-0A495CDF7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94F762-9070-4C58-9683-B20702A83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E4074A-73F6-4B7C-A500-ED9D65840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B27E-FE30-43AA-99B7-AB5596E8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33D8CD-DD8C-46AC-9F33-6899A11B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7CE88A-F40E-4F4F-84F6-D8E222B9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931712-F3AF-4F11-89E9-43654F55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3FE153-E2E1-4EF9-B2B5-8DBCC598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1C90C0-5437-48F6-A041-7E9C896B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0EBABA-46E9-4D9A-8D9D-BE0F62C2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2F47DE-4624-4246-B14A-26953144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7D9AB9-D6A3-405F-B40F-8F801AE1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E1D7F7-FE7B-4751-987E-C1392B19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FAA5A6-EEED-49FE-ADD2-9E4B944F2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DFF6-7654-4238-8058-D9FBDCB9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828F5F-6EBF-4C3B-A737-C739DBB5C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80AC74-DB03-4FB1-BCC5-01B6611FE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2D624A-7FB5-40D5-8CBA-7F9358D8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E08235-DCA4-49E2-94F2-A8D3BDC0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52CD0A-2D04-4BD3-97FA-3AA0B083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F750DE-88E2-4D0B-9527-7DC4B92B3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57CDA0-7A46-456A-8A75-ED477A71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4C7514-6B09-4785-BA35-DD03A7CF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9CAB44-6E7D-4351-91EA-C6F451A7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7533AD-8979-4056-AC79-56EBF495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0122-66BB-4A33-BFF2-D95DBD7B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AC15EB-B9FB-433D-BA4A-B60F8686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A8DCF3-5299-4CFC-B777-71E91653B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51694A-B468-46E7-8CA9-E6090B388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D6DF-EF3F-4012-B18C-5F427151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7EAF-79EE-45F4-B97D-16174C39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399E-60D1-4D8B-83A9-80A30AC5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0DCB-02F6-4BCE-B267-C58E5CE9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457D3-D110-4742-AEED-D0E539162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2D36-7CA6-4864-A74B-7B2ACFBFD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30A43-3E7F-4788-AE6C-92460745F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0A89C-C1F7-4D9A-A394-6FCEBFAB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A73FE-0451-4F71-88BC-7F3045A8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B588A-4E11-48D2-BEE4-6CCFD41A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4C26E-C90E-47A7-9402-13A82BE9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AF86-1070-47C9-9482-F0264F0C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54735-5A10-4EC4-BDFA-7FA460C9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B63A7-1E11-4C01-95A7-CB6C9960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31418-2BE9-4023-BE0A-7F03DF5D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E00BE-1652-4E86-BE33-1A8D66A3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926CD-1F6C-40A1-AB1E-51C00C1D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35D94-B261-44E0-99BA-E29DE2B8A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0F27F-D3B5-412A-9F7C-34AC5A108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8E77A-61CC-48B8-9D94-06177B7AC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AB662-205C-4E48-9991-CAFD75C5B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9B7AF-8BEF-4D43-85F7-5969263E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A2B1-C376-4006-A124-82AF299B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F7957-D406-4B70-835F-4DBF1C50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D36CA-03BD-467C-B150-4C1C39D1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43B9C-71C3-426B-A0E1-C7DBE1E3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885E2-E648-4C92-A34D-41A36E96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80E45-E8CC-4B20-80C0-23663F23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C36E3-C6AF-4CFC-8867-7F236EBB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F3330-4F0B-432F-84A8-683FA228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7BA2E-768F-4362-AC46-C93683A52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96383-8DDF-4AEE-B286-7ED1C7166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1EA07-EE59-402D-BDD7-2C953DDD4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4385-73C6-489D-B300-5B970A13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C46C8-C107-4B60-AF6A-E243FBDA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D8062-9E52-4025-9773-7DDE5403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FA3C1-B7CB-4AD6-BBD7-49E70A34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8F784-D966-4354-BFFD-916BE2B3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2B946-4600-4331-9830-E057379E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F5655-44C3-4695-9A64-E7D36769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C3698-E9A9-4876-A6F6-2F7A3D7E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7F407-B1B8-4D13-86DD-A01EBCE7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27946-D5EA-4D32-A53B-2C7E58AB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EB5B5-2B82-4644-9408-E00875270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FEDB-83C6-475F-9AC9-CA2D4C91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9B936-CA7B-4E6D-BE6D-8584EE49C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D866C-C68F-41B8-A313-8C00C96E5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D06BA-4BC0-497E-B77D-917DEADA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B7132-A73E-4BDC-A226-04A8FE47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DA213-5EDF-42BE-9C6A-1764EA25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9D02C-396C-4FB3-9494-592365F8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5E514-D7A9-4770-816A-0EE84CED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85E46-537F-49A0-B143-1B71A3E1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59974-6120-4F9C-903A-428D79A8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B130A-9966-42E7-97A5-2B2178A6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E987-5C71-4ACE-9C37-6B9BC250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C9C5E-4ED5-4003-9F02-ED63336F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6FF13-7B48-47B4-997F-AE00C542B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4D4AA-461E-4A57-9876-7D33E4C83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A3F83-8462-4978-A017-E5619E901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2D1C9-CD45-4ABA-AE11-B55FC72A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D18E3-E2E8-4D5E-811C-721E4E9A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2C40C-E69F-44EE-BC6F-3897A19F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48F3F-60E8-4065-9A9F-7FB0D8DB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A664B-CC8A-491C-B35A-D07E5DB8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60374-A140-46E2-A958-5CD2EDCA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35C5-2338-4288-9CE3-08AEA58A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6F68B-9B99-4C96-9E0A-8C50FA45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0202E-7515-42F1-8254-C36AAB8A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C977B-AB06-4486-B5E4-C2BABC6A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BCFDB-50C8-4972-9075-839D4181E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7C5FF-1A53-4261-9AA9-B50BC3602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46CC3-5D9F-491F-9279-FDB596BD7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2EA78-836F-4E83-8FC1-62F6CDB7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46805-925E-40A9-B767-AAA853F5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6C4B2-A741-41E2-AD22-722971FE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140B6-A557-42DC-A401-BB0479D8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6C87-1E1E-4CD4-92F1-5C1B4240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DE4B7-C428-4F98-AF90-353D77EA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F7D5C-8596-4B6C-B2E0-D506521E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CA55B-A410-46BA-86B5-A97150B6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AF2B6-5CE5-4461-AA0F-88F18523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36CF7-4E94-431D-84D2-155B3F42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10618-4379-422E-A855-6D999E367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91BD5-901D-4DEA-B6BF-E6BC9B1A3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E19F9D-4DE3-4F67-87A6-275AD8A51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194936-94F9-4E98-AC46-7D98A976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2D19D3-F39F-4DCA-8CBF-503BB27F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D79F-4589-4408-A59E-0450AA2300F9}" type="slidenum">
              <a:rPr b="0" lang="en-US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8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9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30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4971-A0A4-469E-BF6F-26395DFA94F5}" type="slidenum">
              <a:rPr b="0" lang="en-US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eece1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eece1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eece1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19A5-3262-4D9D-9A6C-4E33A2148E60}" type="slidenum">
              <a:rPr b="0" lang="en-US" sz="1400" spc="-1" strike="noStrike">
                <a:solidFill>
                  <a:srgbClr val="eeece1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3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DD52-3FE7-422B-950B-D9F4140E8993}" type="slidenum">
              <a:rPr b="0" lang="en-US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C541-BE12-48F9-A53F-61CCC1B3BEB2}" type="slidenum">
              <a:rPr b="0" lang="en-US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7656-3140-4236-85BB-9BDF32FD75A7}" type="slidenum">
              <a:rPr b="0" lang="en-US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4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eece1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eece1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4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4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eece1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67B7-1588-4D68-B229-035BC9FF9D41}" type="slidenum">
              <a:rPr b="0" lang="en-US" sz="1400" spc="-1" strike="noStrike">
                <a:solidFill>
                  <a:srgbClr val="eeece1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4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4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4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D185-E844-4D1B-B44D-E5E16B9E72AA}" type="slidenum">
              <a:rPr b="0" lang="en-US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2B1A-7944-4B07-ACA3-A26C699BB2E5}" type="slidenum">
              <a:rPr b="0" lang="en-US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DAD0-3148-48EE-A0EA-DF033B742875}" type="slidenum">
              <a:rPr b="0" lang="en-US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eece1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eece1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eece1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2D8D-8E6E-4B4C-881E-2B1856FF5153}" type="slidenum">
              <a:rPr b="0" lang="en-US" sz="1400" spc="-1" strike="noStrike">
                <a:solidFill>
                  <a:srgbClr val="eeece1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F027-2031-4954-A547-39E8B9EEE03B}" type="slidenum">
              <a:rPr b="0" lang="en-US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8129-2879-4692-854D-03422B8EF98E}" type="slidenum">
              <a:rPr b="0" lang="en-US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ACD9-76BC-4034-94E3-AFCBD7D9BE67}" type="slidenum">
              <a:rPr b="0" lang="en-US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eece1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eece1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eece1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D341-D1F7-4A9E-86B3-1833935B74AB}" type="slidenum">
              <a:rPr b="0" lang="en-US" sz="1400" spc="-1" strike="noStrike">
                <a:solidFill>
                  <a:srgbClr val="eeece1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0D31-B644-497A-9C28-BCDBE10B9B7F}" type="slidenum">
              <a:rPr b="0" lang="en-US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294920" y="4038120"/>
            <a:ext cx="64515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Overview of Learning Activities</a:t>
            </a:r>
            <a:br>
              <a:rPr sz="2800"/>
            </a:br>
            <a:endParaRPr b="0" lang="en-US" sz="28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1193760" y="5130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(HOW TO CONSTRUCT ILO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Gill Sans MT"/>
              </a:rPr>
              <a:t>Bloom's Taxonom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[</a:t>
            </a: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K</a:t>
            </a: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illing </a:t>
            </a: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at </a:t>
            </a: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lmost </a:t>
            </a: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lways </a:t>
            </a: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eems </a:t>
            </a: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vil]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760" name="Group 3"/>
          <p:cNvGrpSpPr/>
          <p:nvPr/>
        </p:nvGrpSpPr>
        <p:grpSpPr>
          <a:xfrm>
            <a:off x="0" y="5700600"/>
            <a:ext cx="8458200" cy="1251000"/>
            <a:chOff x="0" y="5700600"/>
            <a:chExt cx="8458200" cy="1251000"/>
          </a:xfrm>
        </p:grpSpPr>
        <p:pic>
          <p:nvPicPr>
            <p:cNvPr id="761" name="Picture 4" descr="Photo200E"/>
            <p:cNvPicPr/>
            <p:nvPr/>
          </p:nvPicPr>
          <p:blipFill>
            <a:blip r:embed="rId1"/>
            <a:stretch/>
          </p:blipFill>
          <p:spPr>
            <a:xfrm>
              <a:off x="0" y="5700600"/>
              <a:ext cx="99036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2" name="TextBox 5"/>
            <p:cNvSpPr/>
            <p:nvPr/>
          </p:nvSpPr>
          <p:spPr>
            <a:xfrm>
              <a:off x="1066680" y="6248160"/>
              <a:ext cx="7391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ctr" pos="2637000"/>
                  <a:tab algn="r" pos="52736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Q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ality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surance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dical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search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stitu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65" name="Content Placeholder 7" descr=""/>
          <p:cNvPicPr/>
          <p:nvPr/>
        </p:nvPicPr>
        <p:blipFill>
          <a:blip r:embed="rId1"/>
          <a:stretch/>
        </p:blipFill>
        <p:spPr>
          <a:xfrm>
            <a:off x="969840" y="1200240"/>
            <a:ext cx="4907160" cy="4968720"/>
          </a:xfrm>
          <a:prstGeom prst="rect">
            <a:avLst/>
          </a:prstGeom>
          <a:ln w="0">
            <a:noFill/>
          </a:ln>
        </p:spPr>
      </p:pic>
      <p:sp>
        <p:nvSpPr>
          <p:cNvPr id="766" name="TextBox 4"/>
          <p:cNvSpPr/>
          <p:nvPr/>
        </p:nvSpPr>
        <p:spPr>
          <a:xfrm>
            <a:off x="2666880" y="14479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Up Arrow 10"/>
          <p:cNvSpPr/>
          <p:nvPr/>
        </p:nvSpPr>
        <p:spPr>
          <a:xfrm>
            <a:off x="685800" y="1523880"/>
            <a:ext cx="533520" cy="4419720"/>
          </a:xfrm>
          <a:prstGeom prst="upArrow">
            <a:avLst>
              <a:gd name="adj1" fmla="val 50000"/>
              <a:gd name="adj2" fmla="val 49973"/>
            </a:avLst>
          </a:prstGeom>
          <a:gradFill rotWithShape="0">
            <a:gsLst>
              <a:gs pos="0">
                <a:srgbClr val="dcf0be"/>
              </a:gs>
              <a:gs pos="100000">
                <a:srgbClr val="dcf0be"/>
              </a:gs>
            </a:gsLst>
            <a:lin ang="900000"/>
          </a:gradFill>
          <a:ln w="9360">
            <a:solidFill>
              <a:srgbClr val="9bbb59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Right Brace 12"/>
          <p:cNvGrpSpPr/>
          <p:nvPr/>
        </p:nvGrpSpPr>
        <p:grpSpPr>
          <a:xfrm>
            <a:off x="5194440" y="1335240"/>
            <a:ext cx="822240" cy="2974680"/>
            <a:chOff x="5194440" y="1335240"/>
            <a:chExt cx="822240" cy="2974680"/>
          </a:xfrm>
        </p:grpSpPr>
        <p:pic>
          <p:nvPicPr>
            <p:cNvPr id="769" name="Right Brace 12" descr=""/>
            <p:cNvPicPr/>
            <p:nvPr/>
          </p:nvPicPr>
          <p:blipFill>
            <a:blip r:embed="rId2"/>
            <a:stretch/>
          </p:blipFill>
          <p:spPr>
            <a:xfrm>
              <a:off x="5194440" y="1335240"/>
              <a:ext cx="822240" cy="29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>
              <a:off x="5257800" y="1389240"/>
              <a:ext cx="243000" cy="27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Right Brace 13"/>
          <p:cNvGrpSpPr/>
          <p:nvPr/>
        </p:nvGrpSpPr>
        <p:grpSpPr>
          <a:xfrm>
            <a:off x="5651640" y="4462560"/>
            <a:ext cx="974520" cy="1749240"/>
            <a:chOff x="5651640" y="4462560"/>
            <a:chExt cx="974520" cy="1749240"/>
          </a:xfrm>
        </p:grpSpPr>
        <p:pic>
          <p:nvPicPr>
            <p:cNvPr id="772" name="Right Brace 13" descr=""/>
            <p:cNvPicPr/>
            <p:nvPr/>
          </p:nvPicPr>
          <p:blipFill>
            <a:blip r:embed="rId3"/>
            <a:stretch/>
          </p:blipFill>
          <p:spPr>
            <a:xfrm>
              <a:off x="5651640" y="4462560"/>
              <a:ext cx="974520" cy="17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>
              <a:off x="5715000" y="4516560"/>
              <a:ext cx="297000" cy="155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Rounded Rectangle 14"/>
          <p:cNvSpPr/>
          <p:nvPr/>
        </p:nvSpPr>
        <p:spPr>
          <a:xfrm>
            <a:off x="6095880" y="2286000"/>
            <a:ext cx="221004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4bbbb"/>
              </a:gs>
              <a:gs pos="100000">
                <a:srgbClr val="f4bbbb"/>
              </a:gs>
            </a:gsLst>
            <a:lin ang="900000"/>
          </a:gradFill>
          <a:ln w="9360">
            <a:solidFill>
              <a:srgbClr val="c0504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Intellectu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ounded Rectangle 16"/>
          <p:cNvSpPr/>
          <p:nvPr/>
        </p:nvSpPr>
        <p:spPr>
          <a:xfrm>
            <a:off x="6477120" y="4343400"/>
            <a:ext cx="2514600" cy="1523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cf0be"/>
              </a:gs>
              <a:gs pos="100000">
                <a:srgbClr val="dcf0be"/>
              </a:gs>
            </a:gsLst>
            <a:lin ang="900000"/>
          </a:gradFill>
          <a:ln w="9360">
            <a:solidFill>
              <a:srgbClr val="9bbb59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Knowledge &amp; 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Group 18"/>
          <p:cNvGrpSpPr/>
          <p:nvPr/>
        </p:nvGrpSpPr>
        <p:grpSpPr>
          <a:xfrm>
            <a:off x="0" y="5700600"/>
            <a:ext cx="8458200" cy="1251000"/>
            <a:chOff x="0" y="5700600"/>
            <a:chExt cx="8458200" cy="1251000"/>
          </a:xfrm>
        </p:grpSpPr>
        <p:pic>
          <p:nvPicPr>
            <p:cNvPr id="777" name="Picture 4" descr="Photo200E"/>
            <p:cNvPicPr/>
            <p:nvPr/>
          </p:nvPicPr>
          <p:blipFill>
            <a:blip r:embed="rId4"/>
            <a:stretch/>
          </p:blipFill>
          <p:spPr>
            <a:xfrm>
              <a:off x="0" y="5700600"/>
              <a:ext cx="99036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8" name="TextBox 20"/>
            <p:cNvSpPr/>
            <p:nvPr/>
          </p:nvSpPr>
          <p:spPr>
            <a:xfrm>
              <a:off x="1066680" y="6248160"/>
              <a:ext cx="7391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ctr" pos="2637000"/>
                  <a:tab algn="r" pos="52736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Q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ality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surance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dical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search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stitu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2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ookman Old Style"/>
              </a:rPr>
              <a:t>Level of learning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graphicFrame>
        <p:nvGraphicFramePr>
          <p:cNvPr id="780" name=""/>
          <p:cNvGraphicFramePr/>
          <p:nvPr/>
        </p:nvGraphicFramePr>
        <p:xfrm>
          <a:off x="1066680" y="1219320"/>
          <a:ext cx="7925040" cy="5029200"/>
        </p:xfrm>
        <a:graphic>
          <a:graphicData uri="http://schemas.openxmlformats.org/drawingml/2006/table">
            <a:tbl>
              <a:tblPr/>
              <a:tblGrid>
                <a:gridCol w="2421000"/>
                <a:gridCol w="5504040"/>
              </a:tblGrid>
              <a:tr h="434880">
                <a:tc>
                  <a:txBody>
                    <a:bodyPr lIns="90720" rIns="90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Knowled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720" rIns="90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bility to recall previously learned materi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781200">
                <a:tc>
                  <a:txBody>
                    <a:bodyPr lIns="90720" rIns="90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mprehen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720" rIns="90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bility to grasp meaning, explain, restate ide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779400">
                <a:tc>
                  <a:txBody>
                    <a:bodyPr lIns="90720" rIns="90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ppl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720" rIns="90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bility to use learned material in new situati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127160">
                <a:tc>
                  <a:txBody>
                    <a:bodyPr lIns="90720" rIns="90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naly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720" rIns="90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bility to separate material in to components and show relation between the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126800">
                <a:tc>
                  <a:txBody>
                    <a:bodyPr lIns="90720" rIns="90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ynthe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720" rIns="90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bility to put together the separate ideas to form new whole and establish new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lation ship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779760">
                <a:tc>
                  <a:txBody>
                    <a:bodyPr lIns="90720" rIns="90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valu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720" rIns="90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bility to judge worth of material against stated criteri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</a:tr>
            </a:tbl>
          </a:graphicData>
        </a:graphic>
      </p:graphicFrame>
      <p:grpSp>
        <p:nvGrpSpPr>
          <p:cNvPr id="781" name="Group 7"/>
          <p:cNvGrpSpPr/>
          <p:nvPr/>
        </p:nvGrpSpPr>
        <p:grpSpPr>
          <a:xfrm>
            <a:off x="0" y="5700600"/>
            <a:ext cx="8458200" cy="1251000"/>
            <a:chOff x="0" y="5700600"/>
            <a:chExt cx="8458200" cy="1251000"/>
          </a:xfrm>
        </p:grpSpPr>
        <p:pic>
          <p:nvPicPr>
            <p:cNvPr id="782" name="Picture 4" descr="Photo200E"/>
            <p:cNvPicPr/>
            <p:nvPr/>
          </p:nvPicPr>
          <p:blipFill>
            <a:blip r:embed="rId1"/>
            <a:stretch/>
          </p:blipFill>
          <p:spPr>
            <a:xfrm>
              <a:off x="0" y="5700600"/>
              <a:ext cx="99036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3" name="TextBox 9"/>
            <p:cNvSpPr/>
            <p:nvPr/>
          </p:nvSpPr>
          <p:spPr>
            <a:xfrm>
              <a:off x="1066680" y="6248160"/>
              <a:ext cx="7391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ctr" pos="2637000"/>
                  <a:tab algn="r" pos="52736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Q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ality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surance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dical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search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stitu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1f497d"/>
                </a:solidFill>
                <a:latin typeface="Bookman Old Style"/>
              </a:rPr>
              <a:t>Examples of action verbs for the 6 levels</a:t>
            </a:r>
            <a:endParaRPr b="0" lang="en-US" sz="2900" spc="-1" strike="noStrike">
              <a:solidFill>
                <a:srgbClr val="1f497d"/>
              </a:solidFill>
              <a:latin typeface="Bookman Old Style"/>
            </a:endParaRPr>
          </a:p>
        </p:txBody>
      </p:sp>
      <p:graphicFrame>
        <p:nvGraphicFramePr>
          <p:cNvPr id="785" name=""/>
          <p:cNvGraphicFramePr/>
          <p:nvPr/>
        </p:nvGraphicFramePr>
        <p:xfrm>
          <a:off x="990720" y="1219320"/>
          <a:ext cx="7848360" cy="5029200"/>
        </p:xfrm>
        <a:graphic>
          <a:graphicData uri="http://schemas.openxmlformats.org/drawingml/2006/table">
            <a:tbl>
              <a:tblPr/>
              <a:tblGrid>
                <a:gridCol w="2616120"/>
                <a:gridCol w="5232240"/>
              </a:tblGrid>
              <a:tr h="87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call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remembe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efine, label, list, recognize, recal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nderstanding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(comprehens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lassify, describe, discuss, explain ,express, identify, selec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ppli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pply, choose, demonstrate, illustrate, interpre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naly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nalyze, categorize, compare, distinguish, differentiat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ynthe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rrange, construct, design, develop, manage, plan, propo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valu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ppraise, assess, choose, compare, select, evaluat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</a:tr>
            </a:tbl>
          </a:graphicData>
        </a:graphic>
      </p:graphicFrame>
      <p:grpSp>
        <p:nvGrpSpPr>
          <p:cNvPr id="786" name="Group 4"/>
          <p:cNvGrpSpPr/>
          <p:nvPr/>
        </p:nvGrpSpPr>
        <p:grpSpPr>
          <a:xfrm>
            <a:off x="0" y="5700600"/>
            <a:ext cx="8458200" cy="1251000"/>
            <a:chOff x="0" y="5700600"/>
            <a:chExt cx="8458200" cy="1251000"/>
          </a:xfrm>
        </p:grpSpPr>
        <p:pic>
          <p:nvPicPr>
            <p:cNvPr id="787" name="Picture 4" descr="Photo200E"/>
            <p:cNvPicPr/>
            <p:nvPr/>
          </p:nvPicPr>
          <p:blipFill>
            <a:blip r:embed="rId1"/>
            <a:stretch/>
          </p:blipFill>
          <p:spPr>
            <a:xfrm>
              <a:off x="0" y="5700600"/>
              <a:ext cx="99036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8" name="TextBox 6"/>
            <p:cNvSpPr/>
            <p:nvPr/>
          </p:nvSpPr>
          <p:spPr>
            <a:xfrm>
              <a:off x="1066680" y="6248160"/>
              <a:ext cx="7391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ctr" pos="2637000"/>
                  <a:tab algn="r" pos="52736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Q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ality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surance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dical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search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stitu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f497d"/>
                </a:solidFill>
                <a:latin typeface="Bookman Old Style"/>
              </a:rPr>
              <a:t>Avoid using verbs that are difficult to measure objectively</a:t>
            </a:r>
            <a:endParaRPr b="0" lang="en-US" sz="29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990720" y="1219320"/>
            <a:ext cx="76960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now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amiliariz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ain knowledge of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rehen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udy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derstan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e awa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ear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reci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ecome acquainted wit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aliz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791" name="Group 3"/>
          <p:cNvGrpSpPr/>
          <p:nvPr/>
        </p:nvGrpSpPr>
        <p:grpSpPr>
          <a:xfrm>
            <a:off x="0" y="5700600"/>
            <a:ext cx="8458200" cy="1251000"/>
            <a:chOff x="0" y="5700600"/>
            <a:chExt cx="8458200" cy="1251000"/>
          </a:xfrm>
        </p:grpSpPr>
        <p:pic>
          <p:nvPicPr>
            <p:cNvPr id="792" name="Picture 4" descr="Photo200E"/>
            <p:cNvPicPr/>
            <p:nvPr/>
          </p:nvPicPr>
          <p:blipFill>
            <a:blip r:embed="rId1"/>
            <a:stretch/>
          </p:blipFill>
          <p:spPr>
            <a:xfrm>
              <a:off x="0" y="5700600"/>
              <a:ext cx="99036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TextBox 5"/>
            <p:cNvSpPr/>
            <p:nvPr/>
          </p:nvSpPr>
          <p:spPr>
            <a:xfrm>
              <a:off x="1066680" y="6248160"/>
              <a:ext cx="7391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ctr" pos="2637000"/>
                  <a:tab algn="r" pos="52736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Q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ality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surance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dical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search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stitu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ookman Old Style"/>
              </a:rPr>
              <a:t>Psychomotor Skills Domain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96" name="Group 3" descr=""/>
          <p:cNvPicPr/>
          <p:nvPr/>
        </p:nvPicPr>
        <p:blipFill>
          <a:blip r:embed="rId1"/>
          <a:stretch/>
        </p:blipFill>
        <p:spPr>
          <a:xfrm>
            <a:off x="3035160" y="1914480"/>
            <a:ext cx="3494160" cy="3419640"/>
          </a:xfrm>
          <a:prstGeom prst="rect">
            <a:avLst/>
          </a:prstGeom>
          <a:ln w="0">
            <a:noFill/>
          </a:ln>
        </p:spPr>
      </p:pic>
      <p:grpSp>
        <p:nvGrpSpPr>
          <p:cNvPr id="797" name="Group 6"/>
          <p:cNvGrpSpPr/>
          <p:nvPr/>
        </p:nvGrpSpPr>
        <p:grpSpPr>
          <a:xfrm>
            <a:off x="0" y="5700600"/>
            <a:ext cx="8458200" cy="1251000"/>
            <a:chOff x="0" y="5700600"/>
            <a:chExt cx="8458200" cy="1251000"/>
          </a:xfrm>
        </p:grpSpPr>
        <p:pic>
          <p:nvPicPr>
            <p:cNvPr id="798" name="Picture 4" descr="Photo200E"/>
            <p:cNvPicPr/>
            <p:nvPr/>
          </p:nvPicPr>
          <p:blipFill>
            <a:blip r:embed="rId2"/>
            <a:stretch/>
          </p:blipFill>
          <p:spPr>
            <a:xfrm>
              <a:off x="0" y="5700600"/>
              <a:ext cx="99036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9" name="TextBox 8"/>
            <p:cNvSpPr/>
            <p:nvPr/>
          </p:nvSpPr>
          <p:spPr>
            <a:xfrm>
              <a:off x="1066680" y="6248160"/>
              <a:ext cx="7391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ctr" pos="2637000"/>
                  <a:tab algn="r" pos="52736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Q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ality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surance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dical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search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stitu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Commonly used verbs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se Microscop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djust Microscop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alpate the puls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easure …………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tect ……………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se “dipsticks”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erform ………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oint to ………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802" name="Group 3"/>
          <p:cNvGrpSpPr/>
          <p:nvPr/>
        </p:nvGrpSpPr>
        <p:grpSpPr>
          <a:xfrm>
            <a:off x="0" y="5700600"/>
            <a:ext cx="8458200" cy="1251000"/>
            <a:chOff x="0" y="5700600"/>
            <a:chExt cx="8458200" cy="1251000"/>
          </a:xfrm>
        </p:grpSpPr>
        <p:pic>
          <p:nvPicPr>
            <p:cNvPr id="803" name="Picture 4" descr="Photo200E"/>
            <p:cNvPicPr/>
            <p:nvPr/>
          </p:nvPicPr>
          <p:blipFill>
            <a:blip r:embed="rId1"/>
            <a:stretch/>
          </p:blipFill>
          <p:spPr>
            <a:xfrm>
              <a:off x="0" y="5700600"/>
              <a:ext cx="99036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4" name="TextBox 5"/>
            <p:cNvSpPr/>
            <p:nvPr/>
          </p:nvSpPr>
          <p:spPr>
            <a:xfrm>
              <a:off x="1066680" y="6248160"/>
              <a:ext cx="7391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ctr" pos="2637000"/>
                  <a:tab algn="r" pos="52736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Q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ality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surance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dical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search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stitu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ookman Old Style"/>
              </a:rPr>
              <a:t>Affective Domain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807" name="Group 3" descr=""/>
          <p:cNvPicPr/>
          <p:nvPr/>
        </p:nvPicPr>
        <p:blipFill>
          <a:blip r:embed="rId1"/>
          <a:stretch/>
        </p:blipFill>
        <p:spPr>
          <a:xfrm>
            <a:off x="3035160" y="1914480"/>
            <a:ext cx="3067200" cy="3071880"/>
          </a:xfrm>
          <a:prstGeom prst="rect">
            <a:avLst/>
          </a:prstGeom>
          <a:ln w="0">
            <a:noFill/>
          </a:ln>
        </p:spPr>
      </p:pic>
      <p:grpSp>
        <p:nvGrpSpPr>
          <p:cNvPr id="808" name="Group 6"/>
          <p:cNvGrpSpPr/>
          <p:nvPr/>
        </p:nvGrpSpPr>
        <p:grpSpPr>
          <a:xfrm>
            <a:off x="0" y="5700600"/>
            <a:ext cx="8458200" cy="1251000"/>
            <a:chOff x="0" y="5700600"/>
            <a:chExt cx="8458200" cy="1251000"/>
          </a:xfrm>
        </p:grpSpPr>
        <p:pic>
          <p:nvPicPr>
            <p:cNvPr id="809" name="Picture 4" descr="Photo200E"/>
            <p:cNvPicPr/>
            <p:nvPr/>
          </p:nvPicPr>
          <p:blipFill>
            <a:blip r:embed="rId2"/>
            <a:stretch/>
          </p:blipFill>
          <p:spPr>
            <a:xfrm>
              <a:off x="0" y="5700600"/>
              <a:ext cx="99036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0" name="TextBox 8"/>
            <p:cNvSpPr/>
            <p:nvPr/>
          </p:nvSpPr>
          <p:spPr>
            <a:xfrm>
              <a:off x="1066680" y="6248160"/>
              <a:ext cx="7391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ctr" pos="2637000"/>
                  <a:tab algn="r" pos="52736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Q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ality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surance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dical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search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stitu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Commonly used verbs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spect time/place/colleagues/etc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e punctu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Value work of othe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reat paramedics respectfull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andle "Cadaver, specimen, instruments, etc…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813" name="Group 3"/>
          <p:cNvGrpSpPr/>
          <p:nvPr/>
        </p:nvGrpSpPr>
        <p:grpSpPr>
          <a:xfrm>
            <a:off x="0" y="5700600"/>
            <a:ext cx="8458200" cy="1251000"/>
            <a:chOff x="0" y="5700600"/>
            <a:chExt cx="8458200" cy="1251000"/>
          </a:xfrm>
        </p:grpSpPr>
        <p:pic>
          <p:nvPicPr>
            <p:cNvPr id="814" name="Picture 4" descr="Photo200E"/>
            <p:cNvPicPr/>
            <p:nvPr/>
          </p:nvPicPr>
          <p:blipFill>
            <a:blip r:embed="rId1"/>
            <a:stretch/>
          </p:blipFill>
          <p:spPr>
            <a:xfrm>
              <a:off x="0" y="5700600"/>
              <a:ext cx="99036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5" name="TextBox 5"/>
            <p:cNvSpPr/>
            <p:nvPr/>
          </p:nvSpPr>
          <p:spPr>
            <a:xfrm>
              <a:off x="1066680" y="6248160"/>
              <a:ext cx="7391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ctr" pos="2637000"/>
                  <a:tab algn="r" pos="52736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Q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ality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surance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dical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search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stitu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ookman Old Style"/>
              </a:rPr>
              <a:t>General &amp; Transferable Skills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mmunica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se compute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esent inform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arch literatur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operate in team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earn &amp; teach in group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actice self &amp; peer to peer apprais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dopt principles of scientific method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ork as a group lead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818" name="Group 3"/>
          <p:cNvGrpSpPr/>
          <p:nvPr/>
        </p:nvGrpSpPr>
        <p:grpSpPr>
          <a:xfrm>
            <a:off x="0" y="5700600"/>
            <a:ext cx="8458200" cy="1251000"/>
            <a:chOff x="0" y="5700600"/>
            <a:chExt cx="8458200" cy="1251000"/>
          </a:xfrm>
        </p:grpSpPr>
        <p:pic>
          <p:nvPicPr>
            <p:cNvPr id="819" name="Picture 4" descr="Photo200E"/>
            <p:cNvPicPr/>
            <p:nvPr/>
          </p:nvPicPr>
          <p:blipFill>
            <a:blip r:embed="rId1"/>
            <a:stretch/>
          </p:blipFill>
          <p:spPr>
            <a:xfrm>
              <a:off x="0" y="5700600"/>
              <a:ext cx="99036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0" name="TextBox 5"/>
            <p:cNvSpPr/>
            <p:nvPr/>
          </p:nvSpPr>
          <p:spPr>
            <a:xfrm>
              <a:off x="1066680" y="6248160"/>
              <a:ext cx="7391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ctr" pos="2637000"/>
                  <a:tab algn="r" pos="52736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Q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ality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surance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dical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search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stitu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ookman Old Style"/>
              </a:rPr>
              <a:t>Outline: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By the end of this session you will be able to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dentify the basis of </a:t>
            </a:r>
            <a:r>
              <a:rPr b="1" lang="en-US" sz="3200" spc="-1" strike="noStrike">
                <a:solidFill>
                  <a:srgbClr val="c0504d"/>
                </a:solidFill>
                <a:latin typeface="Gill Sans MT"/>
              </a:rPr>
              <a:t>construct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ILO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cognize the difference in the </a:t>
            </a:r>
            <a:r>
              <a:rPr b="1" lang="en-US" sz="3200" spc="-1" strike="noStrike">
                <a:solidFill>
                  <a:srgbClr val="c0504d"/>
                </a:solidFill>
                <a:latin typeface="Gill Sans MT"/>
              </a:rPr>
              <a:t>actio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3200" spc="-1" strike="noStrike">
                <a:solidFill>
                  <a:srgbClr val="c0504d"/>
                </a:solidFill>
                <a:latin typeface="Gill Sans MT"/>
              </a:rPr>
              <a:t>verb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of ILOs of </a:t>
            </a:r>
            <a:r>
              <a:rPr b="1" lang="en-US" sz="3200" spc="-1" strike="noStrike">
                <a:solidFill>
                  <a:srgbClr val="c0504d"/>
                </a:solidFill>
                <a:latin typeface="Gill Sans MT"/>
              </a:rPr>
              <a:t>different domain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d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3200" spc="-1" strike="noStrike">
                <a:solidFill>
                  <a:srgbClr val="c0504d"/>
                </a:solidFill>
                <a:latin typeface="Gill Sans MT"/>
              </a:rPr>
              <a:t>leve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708" name="Group 3"/>
          <p:cNvGrpSpPr/>
          <p:nvPr/>
        </p:nvGrpSpPr>
        <p:grpSpPr>
          <a:xfrm>
            <a:off x="0" y="5700600"/>
            <a:ext cx="8458200" cy="1251000"/>
            <a:chOff x="0" y="5700600"/>
            <a:chExt cx="8458200" cy="1251000"/>
          </a:xfrm>
        </p:grpSpPr>
        <p:pic>
          <p:nvPicPr>
            <p:cNvPr id="709" name="Picture 4" descr="Photo200E"/>
            <p:cNvPicPr/>
            <p:nvPr/>
          </p:nvPicPr>
          <p:blipFill>
            <a:blip r:embed="rId1"/>
            <a:stretch/>
          </p:blipFill>
          <p:spPr>
            <a:xfrm>
              <a:off x="0" y="5700600"/>
              <a:ext cx="99036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TextBox 5"/>
            <p:cNvSpPr/>
            <p:nvPr/>
          </p:nvSpPr>
          <p:spPr>
            <a:xfrm>
              <a:off x="1066680" y="6248160"/>
              <a:ext cx="7391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ctr" pos="2637000"/>
                  <a:tab algn="r" pos="52736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Q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ality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surance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dical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search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stitu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823" name="Rectangle 3" descr=""/>
          <p:cNvPicPr/>
          <p:nvPr/>
        </p:nvPicPr>
        <p:blipFill>
          <a:blip r:embed="rId1"/>
          <a:stretch/>
        </p:blipFill>
        <p:spPr>
          <a:xfrm>
            <a:off x="1682640" y="2766960"/>
            <a:ext cx="6351840" cy="11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ookman Old Style"/>
              </a:rPr>
              <a:t>Classification of ILOs according to QAA templates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4f81bd"/>
              </a:buClr>
              <a:buSzPct val="76000"/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Knowledge &amp; Understanding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4f81bd"/>
              </a:buClr>
              <a:buSzPct val="76000"/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Intellectual  skills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4f81bd"/>
              </a:buClr>
              <a:buSzPct val="76000"/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rofessional &amp; Practical Skill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4f81bd"/>
              </a:buClr>
              <a:buSzPct val="76000"/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4f81bd"/>
              </a:buClr>
              <a:buSzPct val="76000"/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General &amp; Transferable Skill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4f81bd"/>
              </a:buClr>
              <a:buSzPct val="76000"/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4f81bd"/>
              </a:buClr>
              <a:buSzPct val="76000"/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Attitudes and Ethic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713" name="Right Brace 3"/>
          <p:cNvGrpSpPr/>
          <p:nvPr/>
        </p:nvGrpSpPr>
        <p:grpSpPr>
          <a:xfrm>
            <a:off x="6334200" y="1566720"/>
            <a:ext cx="444600" cy="914400"/>
            <a:chOff x="6334200" y="1566720"/>
            <a:chExt cx="444600" cy="914400"/>
          </a:xfrm>
        </p:grpSpPr>
        <p:pic>
          <p:nvPicPr>
            <p:cNvPr id="714" name="Right Brace 3" descr=""/>
            <p:cNvPicPr/>
            <p:nvPr/>
          </p:nvPicPr>
          <p:blipFill>
            <a:blip r:embed="rId1"/>
            <a:stretch/>
          </p:blipFill>
          <p:spPr>
            <a:xfrm>
              <a:off x="6334200" y="1566720"/>
              <a:ext cx="4446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" name=""/>
            <p:cNvSpPr/>
            <p:nvPr/>
          </p:nvSpPr>
          <p:spPr>
            <a:xfrm>
              <a:off x="6400800" y="1608120"/>
              <a:ext cx="1080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6" name="Oval 4"/>
          <p:cNvSpPr/>
          <p:nvPr/>
        </p:nvSpPr>
        <p:spPr>
          <a:xfrm>
            <a:off x="6705720" y="1219320"/>
            <a:ext cx="2286000" cy="1143000"/>
          </a:xfrm>
          <a:prstGeom prst="ellipse">
            <a:avLst/>
          </a:prstGeom>
          <a:gradFill rotWithShape="0">
            <a:gsLst>
              <a:gs pos="0">
                <a:srgbClr val="f4bbbb"/>
              </a:gs>
              <a:gs pos="100000">
                <a:srgbClr val="f4bbbb"/>
              </a:gs>
            </a:gsLst>
            <a:lin ang="900000"/>
          </a:gradFill>
          <a:ln w="9360">
            <a:solidFill>
              <a:srgbClr val="c0504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Cognitive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Oval 5"/>
          <p:cNvSpPr/>
          <p:nvPr/>
        </p:nvSpPr>
        <p:spPr>
          <a:xfrm>
            <a:off x="5715000" y="4952880"/>
            <a:ext cx="2286000" cy="1143000"/>
          </a:xfrm>
          <a:prstGeom prst="ellipse">
            <a:avLst/>
          </a:prstGeom>
          <a:gradFill rotWithShape="0">
            <a:gsLst>
              <a:gs pos="0">
                <a:srgbClr val="dcf0be"/>
              </a:gs>
              <a:gs pos="100000">
                <a:srgbClr val="dcf0be"/>
              </a:gs>
            </a:gsLst>
            <a:lin ang="900000"/>
          </a:gradFill>
          <a:ln w="9360">
            <a:solidFill>
              <a:srgbClr val="9bbb59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Affective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Oval 6"/>
          <p:cNvSpPr/>
          <p:nvPr/>
        </p:nvSpPr>
        <p:spPr>
          <a:xfrm>
            <a:off x="5791320" y="2819520"/>
            <a:ext cx="3124080" cy="1218960"/>
          </a:xfrm>
          <a:prstGeom prst="ellipse">
            <a:avLst/>
          </a:prstGeom>
          <a:gradFill rotWithShape="0">
            <a:gsLst>
              <a:gs pos="0">
                <a:srgbClr val="bccef2"/>
              </a:gs>
              <a:gs pos="100000">
                <a:srgbClr val="bccef2"/>
              </a:gs>
            </a:gsLst>
            <a:lin ang="900000"/>
          </a:gradFill>
          <a:ln w="9360">
            <a:solidFill>
              <a:srgbClr val="4f81b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Psychomotor 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Straight Arrow Connector 8" descr=""/>
          <p:cNvPicPr/>
          <p:nvPr/>
        </p:nvPicPr>
        <p:blipFill>
          <a:blip r:embed="rId2"/>
          <a:stretch/>
        </p:blipFill>
        <p:spPr>
          <a:xfrm>
            <a:off x="4425840" y="2938320"/>
            <a:ext cx="1541520" cy="712800"/>
          </a:xfrm>
          <a:prstGeom prst="rect">
            <a:avLst/>
          </a:prstGeom>
          <a:ln w="0">
            <a:noFill/>
          </a:ln>
        </p:spPr>
      </p:pic>
      <p:pic>
        <p:nvPicPr>
          <p:cNvPr id="720" name="Straight Arrow Connector 9" descr=""/>
          <p:cNvPicPr/>
          <p:nvPr/>
        </p:nvPicPr>
        <p:blipFill>
          <a:blip r:embed="rId3"/>
          <a:stretch/>
        </p:blipFill>
        <p:spPr>
          <a:xfrm>
            <a:off x="4730760" y="5376960"/>
            <a:ext cx="1236600" cy="371520"/>
          </a:xfrm>
          <a:prstGeom prst="rect">
            <a:avLst/>
          </a:prstGeom>
          <a:ln w="0">
            <a:noFill/>
          </a:ln>
        </p:spPr>
      </p:pic>
      <p:grpSp>
        <p:nvGrpSpPr>
          <p:cNvPr id="721" name="Group 10"/>
          <p:cNvGrpSpPr/>
          <p:nvPr/>
        </p:nvGrpSpPr>
        <p:grpSpPr>
          <a:xfrm>
            <a:off x="0" y="5700600"/>
            <a:ext cx="8458200" cy="1251000"/>
            <a:chOff x="0" y="5700600"/>
            <a:chExt cx="8458200" cy="1251000"/>
          </a:xfrm>
        </p:grpSpPr>
        <p:pic>
          <p:nvPicPr>
            <p:cNvPr id="722" name="Picture 4" descr="Photo200E"/>
            <p:cNvPicPr/>
            <p:nvPr/>
          </p:nvPicPr>
          <p:blipFill>
            <a:blip r:embed="rId4"/>
            <a:stretch/>
          </p:blipFill>
          <p:spPr>
            <a:xfrm>
              <a:off x="0" y="5700600"/>
              <a:ext cx="99036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TextBox 12"/>
            <p:cNvSpPr/>
            <p:nvPr/>
          </p:nvSpPr>
          <p:spPr>
            <a:xfrm>
              <a:off x="1066680" y="6248160"/>
              <a:ext cx="7391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ctr" pos="2637000"/>
                  <a:tab algn="r" pos="52736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Q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ality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surance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dical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search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stitu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ookman Old Style"/>
              </a:rPr>
              <a:t>Learning Objectives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pic>
        <p:nvPicPr>
          <p:cNvPr id="725" name="Content Placeholder 3" descr=""/>
          <p:cNvPicPr/>
          <p:nvPr/>
        </p:nvPicPr>
        <p:blipFill>
          <a:blip r:embed="rId1"/>
          <a:stretch/>
        </p:blipFill>
        <p:spPr>
          <a:xfrm>
            <a:off x="1908000" y="1206360"/>
            <a:ext cx="5096160" cy="5035680"/>
          </a:xfrm>
          <a:prstGeom prst="rect">
            <a:avLst/>
          </a:prstGeom>
          <a:ln w="0">
            <a:noFill/>
          </a:ln>
        </p:spPr>
      </p:pic>
      <p:grpSp>
        <p:nvGrpSpPr>
          <p:cNvPr id="726" name="Group 4"/>
          <p:cNvGrpSpPr/>
          <p:nvPr/>
        </p:nvGrpSpPr>
        <p:grpSpPr>
          <a:xfrm>
            <a:off x="0" y="5700600"/>
            <a:ext cx="8458200" cy="1251000"/>
            <a:chOff x="0" y="5700600"/>
            <a:chExt cx="8458200" cy="1251000"/>
          </a:xfrm>
        </p:grpSpPr>
        <p:pic>
          <p:nvPicPr>
            <p:cNvPr id="727" name="Picture 4" descr="Photo200E"/>
            <p:cNvPicPr/>
            <p:nvPr/>
          </p:nvPicPr>
          <p:blipFill>
            <a:blip r:embed="rId2"/>
            <a:stretch/>
          </p:blipFill>
          <p:spPr>
            <a:xfrm>
              <a:off x="0" y="5700600"/>
              <a:ext cx="99036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TextBox 6"/>
            <p:cNvSpPr/>
            <p:nvPr/>
          </p:nvSpPr>
          <p:spPr>
            <a:xfrm>
              <a:off x="1066680" y="6248160"/>
              <a:ext cx="7391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ctr" pos="2637000"/>
                  <a:tab algn="r" pos="52736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Q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ality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surance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dical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search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stitu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ookman Old Style"/>
              </a:rPr>
              <a:t>HOW TO CONSTRUCT ILOs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pic>
        <p:nvPicPr>
          <p:cNvPr id="730" name="Content Placeholder 3" descr=""/>
          <p:cNvPicPr/>
          <p:nvPr/>
        </p:nvPicPr>
        <p:blipFill>
          <a:blip r:embed="rId1"/>
          <a:stretch/>
        </p:blipFill>
        <p:spPr>
          <a:xfrm>
            <a:off x="396720" y="1212840"/>
            <a:ext cx="8345520" cy="4950000"/>
          </a:xfrm>
          <a:prstGeom prst="rect">
            <a:avLst/>
          </a:prstGeom>
          <a:ln w="0">
            <a:noFill/>
          </a:ln>
        </p:spPr>
      </p:pic>
      <p:grpSp>
        <p:nvGrpSpPr>
          <p:cNvPr id="731" name="Group 4"/>
          <p:cNvGrpSpPr/>
          <p:nvPr/>
        </p:nvGrpSpPr>
        <p:grpSpPr>
          <a:xfrm>
            <a:off x="0" y="5700600"/>
            <a:ext cx="8458200" cy="1251000"/>
            <a:chOff x="0" y="5700600"/>
            <a:chExt cx="8458200" cy="1251000"/>
          </a:xfrm>
        </p:grpSpPr>
        <p:pic>
          <p:nvPicPr>
            <p:cNvPr id="732" name="Picture 4" descr="Photo200E"/>
            <p:cNvPicPr/>
            <p:nvPr/>
          </p:nvPicPr>
          <p:blipFill>
            <a:blip r:embed="rId2"/>
            <a:stretch/>
          </p:blipFill>
          <p:spPr>
            <a:xfrm>
              <a:off x="0" y="5700600"/>
              <a:ext cx="99036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TextBox 6"/>
            <p:cNvSpPr/>
            <p:nvPr/>
          </p:nvSpPr>
          <p:spPr>
            <a:xfrm>
              <a:off x="1066680" y="6248160"/>
              <a:ext cx="7391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ctr" pos="2637000"/>
                  <a:tab algn="r" pos="52736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Q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ality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surance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dical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search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stitu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pic>
        <p:nvPicPr>
          <p:cNvPr id="735" name="Content Placeholder 3" descr=""/>
          <p:cNvPicPr/>
          <p:nvPr/>
        </p:nvPicPr>
        <p:blipFill>
          <a:blip r:embed="rId1"/>
          <a:stretch/>
        </p:blipFill>
        <p:spPr>
          <a:xfrm>
            <a:off x="225360" y="146160"/>
            <a:ext cx="8925120" cy="6121440"/>
          </a:xfrm>
          <a:prstGeom prst="rect">
            <a:avLst/>
          </a:prstGeom>
          <a:ln w="0">
            <a:noFill/>
          </a:ln>
        </p:spPr>
      </p:pic>
      <p:grpSp>
        <p:nvGrpSpPr>
          <p:cNvPr id="736" name="Group 4"/>
          <p:cNvGrpSpPr/>
          <p:nvPr/>
        </p:nvGrpSpPr>
        <p:grpSpPr>
          <a:xfrm>
            <a:off x="0" y="5700600"/>
            <a:ext cx="8458200" cy="1251000"/>
            <a:chOff x="0" y="5700600"/>
            <a:chExt cx="8458200" cy="1251000"/>
          </a:xfrm>
        </p:grpSpPr>
        <p:pic>
          <p:nvPicPr>
            <p:cNvPr id="737" name="Picture 4" descr="Photo200E"/>
            <p:cNvPicPr/>
            <p:nvPr/>
          </p:nvPicPr>
          <p:blipFill>
            <a:blip r:embed="rId2"/>
            <a:stretch/>
          </p:blipFill>
          <p:spPr>
            <a:xfrm>
              <a:off x="0" y="5700600"/>
              <a:ext cx="99036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TextBox 6"/>
            <p:cNvSpPr/>
            <p:nvPr/>
          </p:nvSpPr>
          <p:spPr>
            <a:xfrm>
              <a:off x="1066680" y="6248160"/>
              <a:ext cx="7391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ctr" pos="2637000"/>
                  <a:tab algn="r" pos="52736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Q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ality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surance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dical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search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stitu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E.g.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504d"/>
                </a:solidFill>
                <a:latin typeface="Gill Sans MT"/>
              </a:rPr>
              <a:t>Interpre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pulmonary function tests  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41" name="Content Placeholder 3" descr=""/>
          <p:cNvPicPr/>
          <p:nvPr/>
        </p:nvPicPr>
        <p:blipFill>
          <a:blip r:embed="rId1"/>
          <a:stretch/>
        </p:blipFill>
        <p:spPr>
          <a:xfrm>
            <a:off x="622440" y="1444680"/>
            <a:ext cx="8350200" cy="2676600"/>
          </a:xfrm>
          <a:prstGeom prst="rect">
            <a:avLst/>
          </a:prstGeom>
          <a:ln w="0">
            <a:noFill/>
          </a:ln>
        </p:spPr>
      </p:pic>
      <p:pic>
        <p:nvPicPr>
          <p:cNvPr id="742" name="Content Placeholder 3" descr=""/>
          <p:cNvPicPr/>
          <p:nvPr/>
        </p:nvPicPr>
        <p:blipFill>
          <a:blip r:embed="rId2"/>
          <a:stretch/>
        </p:blipFill>
        <p:spPr>
          <a:xfrm>
            <a:off x="622440" y="3578400"/>
            <a:ext cx="8350200" cy="2676240"/>
          </a:xfrm>
          <a:prstGeom prst="rect">
            <a:avLst/>
          </a:prstGeom>
          <a:ln w="0">
            <a:noFill/>
          </a:ln>
        </p:spPr>
      </p:pic>
      <p:grpSp>
        <p:nvGrpSpPr>
          <p:cNvPr id="743" name="Group 5"/>
          <p:cNvGrpSpPr/>
          <p:nvPr/>
        </p:nvGrpSpPr>
        <p:grpSpPr>
          <a:xfrm>
            <a:off x="0" y="5700600"/>
            <a:ext cx="8458200" cy="1251000"/>
            <a:chOff x="0" y="5700600"/>
            <a:chExt cx="8458200" cy="1251000"/>
          </a:xfrm>
        </p:grpSpPr>
        <p:pic>
          <p:nvPicPr>
            <p:cNvPr id="744" name="Picture 4" descr="Photo200E"/>
            <p:cNvPicPr/>
            <p:nvPr/>
          </p:nvPicPr>
          <p:blipFill>
            <a:blip r:embed="rId3"/>
            <a:stretch/>
          </p:blipFill>
          <p:spPr>
            <a:xfrm>
              <a:off x="0" y="5700600"/>
              <a:ext cx="99036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TextBox 7"/>
            <p:cNvSpPr/>
            <p:nvPr/>
          </p:nvSpPr>
          <p:spPr>
            <a:xfrm>
              <a:off x="1066680" y="6248160"/>
              <a:ext cx="7391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ctr" pos="2637000"/>
                  <a:tab algn="r" pos="52736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Q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ality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surance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dical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search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stitu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Construct ILOs for Learning domains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48" name="Content Placeholder 9" descr=""/>
          <p:cNvPicPr/>
          <p:nvPr/>
        </p:nvPicPr>
        <p:blipFill>
          <a:blip r:embed="rId1"/>
          <a:stretch/>
        </p:blipFill>
        <p:spPr>
          <a:xfrm>
            <a:off x="987480" y="1212840"/>
            <a:ext cx="7016760" cy="4956120"/>
          </a:xfrm>
          <a:prstGeom prst="rect">
            <a:avLst/>
          </a:prstGeom>
          <a:ln w="0">
            <a:noFill/>
          </a:ln>
        </p:spPr>
      </p:pic>
      <p:grpSp>
        <p:nvGrpSpPr>
          <p:cNvPr id="749" name="Group 4"/>
          <p:cNvGrpSpPr/>
          <p:nvPr/>
        </p:nvGrpSpPr>
        <p:grpSpPr>
          <a:xfrm>
            <a:off x="0" y="5700600"/>
            <a:ext cx="8458200" cy="1251000"/>
            <a:chOff x="0" y="5700600"/>
            <a:chExt cx="8458200" cy="1251000"/>
          </a:xfrm>
        </p:grpSpPr>
        <p:pic>
          <p:nvPicPr>
            <p:cNvPr id="750" name="Picture 4" descr="Photo200E"/>
            <p:cNvPicPr/>
            <p:nvPr/>
          </p:nvPicPr>
          <p:blipFill>
            <a:blip r:embed="rId2"/>
            <a:stretch/>
          </p:blipFill>
          <p:spPr>
            <a:xfrm>
              <a:off x="0" y="5700600"/>
              <a:ext cx="99036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1" name="TextBox 6"/>
            <p:cNvSpPr/>
            <p:nvPr/>
          </p:nvSpPr>
          <p:spPr>
            <a:xfrm>
              <a:off x="1066680" y="6248160"/>
              <a:ext cx="7391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ctr" pos="2637000"/>
                  <a:tab algn="r" pos="52736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Q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ality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surance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dical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search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stitu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ookman Old Style"/>
              </a:rPr>
              <a:t>Cognitive domain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54" name="Group 13" descr=""/>
          <p:cNvPicPr/>
          <p:nvPr/>
        </p:nvPicPr>
        <p:blipFill>
          <a:blip r:embed="rId1"/>
          <a:stretch/>
        </p:blipFill>
        <p:spPr>
          <a:xfrm>
            <a:off x="2535120" y="1719360"/>
            <a:ext cx="3762360" cy="3614760"/>
          </a:xfrm>
          <a:prstGeom prst="rect">
            <a:avLst/>
          </a:prstGeom>
          <a:ln w="0">
            <a:noFill/>
          </a:ln>
        </p:spPr>
      </p:pic>
      <p:grpSp>
        <p:nvGrpSpPr>
          <p:cNvPr id="755" name="Group 6"/>
          <p:cNvGrpSpPr/>
          <p:nvPr/>
        </p:nvGrpSpPr>
        <p:grpSpPr>
          <a:xfrm>
            <a:off x="0" y="5700600"/>
            <a:ext cx="8458200" cy="1251000"/>
            <a:chOff x="0" y="5700600"/>
            <a:chExt cx="8458200" cy="1251000"/>
          </a:xfrm>
        </p:grpSpPr>
        <p:pic>
          <p:nvPicPr>
            <p:cNvPr id="756" name="Picture 4" descr="Photo200E"/>
            <p:cNvPicPr/>
            <p:nvPr/>
          </p:nvPicPr>
          <p:blipFill>
            <a:blip r:embed="rId2"/>
            <a:stretch/>
          </p:blipFill>
          <p:spPr>
            <a:xfrm>
              <a:off x="0" y="5700600"/>
              <a:ext cx="99036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TextBox 8"/>
            <p:cNvSpPr/>
            <p:nvPr/>
          </p:nvSpPr>
          <p:spPr>
            <a:xfrm>
              <a:off x="1066680" y="6248160"/>
              <a:ext cx="7391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ctr" pos="2637000"/>
                  <a:tab algn="r" pos="52736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Q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ality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surance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dical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search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stitu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1T18:00:31Z</dcterms:created>
  <dc:creator>mri 321</dc:creator>
  <dc:description/>
  <dc:language>en-US</dc:language>
  <cp:lastModifiedBy>XPuser</cp:lastModifiedBy>
  <dcterms:modified xsi:type="dcterms:W3CDTF">2009-04-16T09:34:32Z</dcterms:modified>
  <cp:revision>4</cp:revision>
  <dc:subject/>
  <dc:title>Overview of Learning Activities (HOW TO CONSTRUCT ILOs)</dc:title>
</cp:coreProperties>
</file>